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7C8F-DEDD-4EB9-8548-C03CE349C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F0D-3751-4F2A-94FE-343D720D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C997-69A6-4A9A-A0C8-B218BDD76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E7DE-15DD-4086-ABC5-F044B939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FD6C2-D841-4017-9E63-8BD5359C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DB60-10D2-42C9-95FC-F8BFCD82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1CD03-AFBA-4836-A002-8856C7F8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915D0-7C07-439F-AE0C-C69AF5FE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689E2-93CF-4596-A4A0-6D2F067A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94EE-2353-4522-A643-A973B30B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AA2A-1AD2-439C-BC3E-F61E2CCC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FD3-386A-44E0-91BC-D274A31A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458D-1B98-4770-973D-BD7E432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D372-A7E5-4A74-9D9E-0D4DB1C5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822F-2C1C-45B0-BBB8-B176EBAC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9CCA-E11D-46E5-94A9-F813874E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2100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67360" y="179532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7464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2100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67360" y="3944880"/>
            <a:ext cx="2520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3E1D-AB4C-4580-8AF5-7EF78A33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A39-6B3B-4364-9898-7B617459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1D2-C38C-46EF-A20B-AF999DDC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7FD-B5E0-4F4D-BAA9-B37B79F2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06000" y="3157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035-FF0D-4F2F-B153-FA84E41D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24E-592D-4092-AABC-2C860F18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5400" y="394488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304-C409-402F-9696-4767B05A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5400" y="1795320"/>
            <a:ext cx="3819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640" y="3944880"/>
            <a:ext cx="7826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73C3-2B74-4396-AFE2-9E17EA1D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 flipH="1" rot="6480000">
            <a:off x="729720" y="1488600"/>
            <a:ext cx="901800" cy="901800"/>
          </a:xfrm>
          <a:prstGeom prst="rtTriangle">
            <a:avLst/>
          </a:prstGeom>
          <a:noFill/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OS 2.2, 2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C3F0-3141-4296-9355-3EAD7DEAF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7" name="AutoShape 9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AutoShape 10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AutoShape 12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" name="Group 14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13" name="Line 15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7" name="AutoShape 19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3953520" y="1539000"/>
            <a:ext cx="5415480" cy="5886720"/>
            <a:chOff x="3953520" y="1539000"/>
            <a:chExt cx="5415480" cy="5886720"/>
          </a:xfrm>
        </p:grpSpPr>
        <p:sp>
          <p:nvSpPr>
            <p:cNvPr id="55" name="AutoShape 3"/>
            <p:cNvSpPr/>
            <p:nvPr/>
          </p:nvSpPr>
          <p:spPr>
            <a:xfrm flipH="1" rot="13500000">
              <a:off x="7068600" y="600084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6" name="AutoShape 4"/>
            <p:cNvSpPr/>
            <p:nvPr/>
          </p:nvSpPr>
          <p:spPr>
            <a:xfrm rot="16200000">
              <a:off x="7478640" y="5268240"/>
              <a:ext cx="1361880" cy="135288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7" name="AutoShape 5"/>
            <p:cNvSpPr/>
            <p:nvPr/>
          </p:nvSpPr>
          <p:spPr>
            <a:xfrm>
              <a:off x="7853400" y="4146480"/>
              <a:ext cx="1282680" cy="1282680"/>
            </a:xfrm>
            <a:prstGeom prst="diamond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AutoShape 6"/>
            <p:cNvSpPr/>
            <p:nvPr/>
          </p:nvSpPr>
          <p:spPr>
            <a:xfrm rot="13500000">
              <a:off x="4365720" y="5022360"/>
              <a:ext cx="1990800" cy="199080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AutoShape 7"/>
            <p:cNvSpPr/>
            <p:nvPr/>
          </p:nvSpPr>
          <p:spPr>
            <a:xfrm flipH="1" rot="8100000">
              <a:off x="5906880" y="3960720"/>
              <a:ext cx="901800" cy="901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60" name="Group 8"/>
            <p:cNvGrpSpPr/>
            <p:nvPr/>
          </p:nvGrpSpPr>
          <p:grpSpPr>
            <a:xfrm>
              <a:off x="6959520" y="3466800"/>
              <a:ext cx="638280" cy="1902240"/>
              <a:chOff x="6959520" y="3466800"/>
              <a:chExt cx="638280" cy="1902240"/>
            </a:xfrm>
          </p:grpSpPr>
          <p:sp>
            <p:nvSpPr>
              <p:cNvPr id="61" name="Line 9"/>
              <p:cNvSpPr/>
              <p:nvPr/>
            </p:nvSpPr>
            <p:spPr>
              <a:xfrm>
                <a:off x="7594560" y="3483000"/>
                <a:ext cx="0" cy="124452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>
                <a:off x="6966000" y="4098960"/>
                <a:ext cx="0" cy="12700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 flipV="1">
                <a:off x="6966000" y="4730400"/>
                <a:ext cx="631800" cy="63180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 flipV="1">
                <a:off x="6959520" y="3466800"/>
                <a:ext cx="638280" cy="638280"/>
              </a:xfrm>
              <a:prstGeom prst="line">
                <a:avLst/>
              </a:prstGeom>
              <a:ln w="1260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65" name="AutoShape 13"/>
            <p:cNvSpPr/>
            <p:nvPr/>
          </p:nvSpPr>
          <p:spPr>
            <a:xfrm rot="18900000">
              <a:off x="6965640" y="1951200"/>
              <a:ext cx="1990800" cy="1990440"/>
            </a:xfrm>
            <a:prstGeom prst="rtTriangle">
              <a:avLst/>
            </a:prstGeom>
            <a:noFill/>
            <a:ln w="126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Group 31"/>
          <p:cNvGrpSpPr/>
          <p:nvPr/>
        </p:nvGrpSpPr>
        <p:grpSpPr>
          <a:xfrm>
            <a:off x="3344760" y="2457360"/>
            <a:ext cx="5450040" cy="4683960"/>
            <a:chOff x="3344760" y="2457360"/>
            <a:chExt cx="5450040" cy="4683960"/>
          </a:xfrm>
        </p:grpSpPr>
        <p:sp>
          <p:nvSpPr>
            <p:cNvPr id="67" name="AutoShape 16"/>
            <p:cNvSpPr/>
            <p:nvPr/>
          </p:nvSpPr>
          <p:spPr>
            <a:xfrm>
              <a:off x="7512120" y="3355920"/>
              <a:ext cx="1282680" cy="1282680"/>
            </a:xfrm>
            <a:prstGeom prst="diamond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Freeform 33"/>
            <p:cNvSpPr/>
            <p:nvPr/>
          </p:nvSpPr>
          <p:spPr>
            <a:xfrm>
              <a:off x="6446880" y="3071880"/>
              <a:ext cx="639720" cy="1892160"/>
            </a:xfrm>
            <a:custGeom>
              <a:avLst/>
              <a:gdLst/>
              <a:ahLst/>
              <a:rect l="l" t="t" r="r" b="b"/>
              <a:pathLst>
                <a:path w="403" h="1192">
                  <a:moveTo>
                    <a:pt x="399" y="0"/>
                  </a:moveTo>
                  <a:lnTo>
                    <a:pt x="0" y="399"/>
                  </a:lnTo>
                  <a:lnTo>
                    <a:pt x="0" y="1191"/>
                  </a:lnTo>
                  <a:lnTo>
                    <a:pt x="402" y="789"/>
                  </a:lnTo>
                  <a:lnTo>
                    <a:pt x="399" y="0"/>
                  </a:lnTo>
                </a:path>
              </a:pathLst>
            </a:custGeom>
            <a:solidFill>
              <a:srgbClr val="669900"/>
            </a:solidFill>
            <a:ln w="12600">
              <a:solidFill>
                <a:srgbClr val="66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 rot="18900000">
              <a:off x="4011120" y="4175280"/>
              <a:ext cx="1990800" cy="199044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 flipH="1" rot="13500000">
              <a:off x="6050520" y="605268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AutoShape 20"/>
            <p:cNvSpPr/>
            <p:nvPr/>
          </p:nvSpPr>
          <p:spPr>
            <a:xfrm rot="16200000">
              <a:off x="7021440" y="4646520"/>
              <a:ext cx="1362240" cy="135288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AutoShape 21"/>
            <p:cNvSpPr/>
            <p:nvPr/>
          </p:nvSpPr>
          <p:spPr>
            <a:xfrm rot="10800000">
              <a:off x="3344760" y="2457360"/>
              <a:ext cx="1990800" cy="1990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3" name="AutoShape 22"/>
            <p:cNvSpPr/>
            <p:nvPr/>
          </p:nvSpPr>
          <p:spPr>
            <a:xfrm flipH="1" rot="8100000">
              <a:off x="5412240" y="4289040"/>
              <a:ext cx="901800" cy="901800"/>
            </a:xfrm>
            <a:prstGeom prst="rtTriangle">
              <a:avLst/>
            </a:prstGeom>
            <a:solidFill>
              <a:srgbClr val="669900"/>
            </a:solidFill>
            <a:ln w="12600">
              <a:solidFill>
                <a:srgbClr val="66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4" name="Rectangle 39"/>
          <p:cNvSpPr/>
          <p:nvPr/>
        </p:nvSpPr>
        <p:spPr>
          <a:xfrm>
            <a:off x="6588000" y="5181480"/>
            <a:ext cx="2556000" cy="38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f8f8f8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0" y="6145200"/>
            <a:ext cx="1371600" cy="71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167616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ACOS 2.2, 2.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1371240" y="6477120"/>
            <a:ext cx="304920" cy="380880"/>
          </a:xfrm>
          <a:prstGeom prst="rect">
            <a:avLst/>
          </a:prstGeom>
          <a:solidFill>
            <a:srgbClr val="669900"/>
          </a:solidFill>
          <a:ln w="0">
            <a:noFill/>
          </a:ln>
        </p:spPr>
        <p:txBody>
          <a:bodyPr lIns="92160" rIns="92160" tIns="46080" bIns="46080" anchor="b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9BA9-2368-4180-B5BE-D23BA1C16B2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rock-hill.k12.sc.us/teachers/NWHS/jvenables/virtualcrimes/lady%20and%20the%20tramp/fingerprintbook6.JPG" TargetMode="External"/><Relationship Id="rId3" Type="http://schemas.openxmlformats.org/officeDocument/2006/relationships/image" Target="../media/image5.png"/><Relationship Id="rId4" Type="http://schemas.openxmlformats.org/officeDocument/2006/relationships/hyperlink" Target="http://www.rock-hill.k12.sc.us/teachers/NWHS/jvenables/virtualcrimes/lady%20and%20the%20tramp/fingerprintbook5.JPG" TargetMode="External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6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17" name="Picture 4" descr="FINGERPRIN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Fingerprints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876560" y="4003560"/>
            <a:ext cx="4259160" cy="1108080"/>
          </a:xfrm>
          <a:prstGeom prst="rect">
            <a:avLst/>
          </a:prstGeom>
          <a:solidFill>
            <a:srgbClr val="6666ff"/>
          </a:solidFill>
          <a:ln w="12600">
            <a:solidFill>
              <a:srgbClr val="6666ff"/>
            </a:solidFill>
            <a:miter/>
          </a:ln>
        </p:spPr>
        <p:txBody>
          <a:bodyPr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asant Valley High Schoo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nsic Scienc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asis for Fingerprinting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Fingerprint is not shared by any two peopl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 Fingerprint remains unchanged throughout lif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ingerprints exhibit general patterns that provide a basis for classification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United States v. Byron C. Mitchell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ennsylvania-1999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dmissibility of fingerprint evidence was challenge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defense stated that the fingerprints could not be proven to be unique under the current research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fter 4 days of hearings, the judge upheld the research on fingerprints and ruled that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Human friction ridges are unique and permane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Human friction ridge skin arrangements are unique and permane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No 2 Identical Prin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alton calculated that there are 64 billion documented that can help to support thi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alton’s calculations were challenged and no matter what formula is used there is the same result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he probability for the existence of two identical fingerprint patterns in the world’s population is extremely smal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n 90 years of research, no two prints have ever been identica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Minutiae Po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KA: Ridge Characteristic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 identity, number, and relative location of characteristics that impart individuality of a finger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n easier definition: the ridges and valleys of a finger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re are as many as 150 minutiae points and ridges on the average 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Some Reality of prin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SI Lies to You!!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rmer CSI from the Gadsden Police Department, Deanna Rice: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 have never lifted a complete print at a crime scene. Tell me what criminal is stupid enough to gingerly press their fingers on a smooth surface just so I can get their fingerprints”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Breakdown of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atent Prin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When a substance such as blood, ink, paint, dirt, or grease on the perpetrators hands leave a visible print behind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Latent Prin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Invisible and require dusting or other processing/lighting to revea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lastic Prin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Occur when perpretrator touches a soft substance such as wax, putty, butter, or even dust. Seen as a 3D imag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Latent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r skin has openings called pores that are the location of perspiration of sweat and body oil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hen you make contact with a surface your body oils stick to a surface in the shape of your finger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rints left with this technique at a crime scene are called latent 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Print Typ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ree categories: Loops, Whorls, and Arch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65% of population has loop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30% has whorl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5% has arch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Loop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class of fingerprints characterized by ridge lines that enter from one side of the pattern and curve around to exit from the same side of the patter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4" name="Picture 5" descr="loop_fingerprint"/>
          <p:cNvPicPr/>
          <p:nvPr/>
        </p:nvPicPr>
        <p:blipFill>
          <a:blip r:embed="rId1"/>
          <a:stretch/>
        </p:blipFill>
        <p:spPr>
          <a:xfrm>
            <a:off x="4664160" y="1933560"/>
            <a:ext cx="383688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wo major Loop Typ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Ulnar Loop- loop opens toward the little finge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Radial Loop- loop opens toward the thumb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ingerprinting Lab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llow my verbal directions for this lab. You will have two days to complete this lab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Whorl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6416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class of fingerprints that include ridge patterns that are generally rounded or circular in shape and have two delta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81" name="Picture 5" descr="untitled"/>
          <p:cNvPicPr/>
          <p:nvPr/>
        </p:nvPicPr>
        <p:blipFill>
          <a:blip r:embed="rId1"/>
          <a:stretch/>
        </p:blipFill>
        <p:spPr>
          <a:xfrm>
            <a:off x="674640" y="2201760"/>
            <a:ext cx="3836880" cy="33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ur distinct loop type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lain- one ridge makes a complete circ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entral pocket loop- if two deltas do not touch on the circl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ouble loop- two loops combined in one fingerprin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ccidental- the catch all category, if the print does not fall into any other categor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9900"/>
          </a:solidFill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74640" y="1795320"/>
            <a:ext cx="7826400" cy="4114800"/>
          </a:xfrm>
          <a:prstGeom prst="rect">
            <a:avLst/>
          </a:prstGeom>
          <a:ln w="0">
            <a:noFill/>
          </a:ln>
        </p:spPr>
      </p:pic>
      <p:sp>
        <p:nvSpPr>
          <p:cNvPr id="188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18E9-BA08-40A1-A172-BFF146B253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90" name="Picture 2" descr="http://www.rock-hill.k12.sc.us/teachers/NWHS/jvenables/virtualcrimes/lady%20and%20the%20tramp/fingerprintbook4.BMP">
            <a:hlinkClick r:id="rId2"/>
          </p:cNvPr>
          <p:cNvPicPr/>
          <p:nvPr/>
        </p:nvPicPr>
        <p:blipFill>
          <a:blip r:embed="rId3"/>
          <a:srcRect l="0" t="0" r="0" b="15385"/>
          <a:stretch/>
        </p:blipFill>
        <p:spPr>
          <a:xfrm>
            <a:off x="762120" y="0"/>
            <a:ext cx="2857320" cy="2514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www.rock-hill.k12.sc.us/teachers/NWHS/jvenables/virtualcrimes/lady%20and%20the%20tramp/FINGERPRINTBOOK1.JPG">
            <a:hlinkClick r:id="rId4"/>
          </p:cNvPr>
          <p:cNvPicPr/>
          <p:nvPr/>
        </p:nvPicPr>
        <p:blipFill>
          <a:blip r:embed="rId5"/>
          <a:srcRect l="0" t="0" r="0" b="8621"/>
          <a:stretch/>
        </p:blipFill>
        <p:spPr>
          <a:xfrm>
            <a:off x="1066680" y="3124080"/>
            <a:ext cx="2895840" cy="3230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http://www.rock-hill.k12.sc.us/teachers/NWHS/jvenables/virtualcrimes/lady%20and%20the%20tramp/fingerprintbook7.JPG"/>
          <p:cNvPicPr/>
          <p:nvPr/>
        </p:nvPicPr>
        <p:blipFill>
          <a:blip r:embed="rId6"/>
          <a:srcRect l="0" t="0" r="0" b="17827"/>
          <a:stretch/>
        </p:blipFill>
        <p:spPr>
          <a:xfrm>
            <a:off x="5867280" y="0"/>
            <a:ext cx="2847960" cy="2819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http://www.rock-hill.k12.sc.us/teachers/NWHS/jvenables/virtualcrimes/lady%20and%20the%20tramp/fingerprintbook2.JPG"/>
          <p:cNvPicPr/>
          <p:nvPr/>
        </p:nvPicPr>
        <p:blipFill>
          <a:blip r:embed="rId7"/>
          <a:srcRect l="0" t="0" r="0" b="9763"/>
          <a:stretch/>
        </p:blipFill>
        <p:spPr>
          <a:xfrm>
            <a:off x="5334120" y="3352680"/>
            <a:ext cx="2666880" cy="28195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9"/>
          <p:cNvSpPr/>
          <p:nvPr/>
        </p:nvSpPr>
        <p:spPr>
          <a:xfrm>
            <a:off x="629640" y="6149880"/>
            <a:ext cx="350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ral Whorl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5" name="TextBox 10"/>
          <p:cNvSpPr/>
          <p:nvPr/>
        </p:nvSpPr>
        <p:spPr>
          <a:xfrm>
            <a:off x="5197680" y="6149880"/>
            <a:ext cx="297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in Whorl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6" name="TextBox 11"/>
          <p:cNvSpPr/>
          <p:nvPr/>
        </p:nvSpPr>
        <p:spPr>
          <a:xfrm>
            <a:off x="24480" y="2438280"/>
            <a:ext cx="432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dental Whorl</a:t>
            </a:r>
            <a:endParaRPr b="0" lang="en-US" sz="40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7" name="TextBox 12"/>
          <p:cNvSpPr/>
          <p:nvPr/>
        </p:nvSpPr>
        <p:spPr>
          <a:xfrm>
            <a:off x="4673160" y="2666880"/>
            <a:ext cx="43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Loop Whorl</a:t>
            </a:r>
            <a:endParaRPr b="0" lang="en-US" sz="36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rch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A class of fingerprint that is characterized by ridge lines that enter the print from one side and flow out the other sid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1" name="Picture 5" descr="arch_fingerprint"/>
          <p:cNvPicPr/>
          <p:nvPr/>
        </p:nvPicPr>
        <p:blipFill>
          <a:blip r:embed="rId1"/>
          <a:stretch/>
        </p:blipFill>
        <p:spPr>
          <a:xfrm>
            <a:off x="4664160" y="1933560"/>
            <a:ext cx="3836880" cy="38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lain arch- simplest of all prints, line enters on one side of print and exits the other sid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ented arch- sharp spike in the center of the 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05" name="Picture 2" descr="http://www.rock-hill.k12.sc.us/teachers/NWHS/jvenables/virtualcrimes/lady%20and%20the%20tramp/fingerprintremake.JPG"/>
          <p:cNvPicPr/>
          <p:nvPr/>
        </p:nvPicPr>
        <p:blipFill>
          <a:blip r:embed="rId1"/>
          <a:srcRect l="0" t="0" r="0" b="17165"/>
          <a:stretch/>
        </p:blipFill>
        <p:spPr>
          <a:xfrm>
            <a:off x="3048120" y="4038480"/>
            <a:ext cx="2209680" cy="2497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rock-hill.k12.sc.us/teachers/NWHS/jvenables/virtualcrimes/lady%20and%20the%20tramp/fingerprintremake2.JPG"/>
          <p:cNvPicPr/>
          <p:nvPr/>
        </p:nvPicPr>
        <p:blipFill>
          <a:blip r:embed="rId2"/>
          <a:srcRect l="0" t="0" r="0" b="16522"/>
          <a:stretch/>
        </p:blipFill>
        <p:spPr>
          <a:xfrm>
            <a:off x="5791320" y="4097160"/>
            <a:ext cx="21668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Unchanging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imilar friction ridges and minutiae can be found on the palms of the hand and on the fee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se skin characteristics were designed by nature to enhance our grip and resist slippag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se ridges and minutiae do not change throughout lif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rankensteining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an you change your fingerprints to prevent being caught?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he answer is NO!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r fingerprints are created during womb developme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 can not ever change your finger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 can damage or mutilate them, but that just makes you more uniqu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Mini Case Stud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John Dillinger, also known as </a:t>
            </a:r>
            <a:r>
              <a:rPr b="0" i="1" lang="en-US" sz="3200" spc="-1" strike="noStrike">
                <a:solidFill>
                  <a:srgbClr val="f8f8f8"/>
                </a:solidFill>
                <a:latin typeface="Arial"/>
              </a:rPr>
              <a:t>Public Enemy Number One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 went through much travesty to evade polic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 had facial reconstructive surgery and acid washed his prints in an effort to avoid arrest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When he was finally shot and taken to the morgue, prints taken at the morgue matched those on file already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Skin Layer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uter layer of skin: Epidermi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Inner layer of skin: Dermi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Layer separating the 2 layers: papilla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19" name="Picture 5" descr="8912"/>
          <p:cNvPicPr/>
          <p:nvPr/>
        </p:nvPicPr>
        <p:blipFill>
          <a:blip r:embed="rId1"/>
          <a:stretch/>
        </p:blipFill>
        <p:spPr>
          <a:xfrm>
            <a:off x="4676760" y="2328840"/>
            <a:ext cx="3809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ormation of FP’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An animal’s external body tissue (skin) is made up of an inner dermis and an outer dermi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FP are created in a special layer between the two derma where new skin is produced (the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basal layer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FP begin forming in the 10</a:t>
            </a:r>
            <a:r>
              <a:rPr b="0" lang="en-US" sz="2400" spc="-1" strike="noStrike" baseline="30000">
                <a:solidFill>
                  <a:srgbClr val="f8f8f8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week of pregnanc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Because the basal layer grows faster than the two derma, it collapses and forms intricate shape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Catalys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xamine your thumbs on both hands. Record any observations you have about both thumbprints. 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Dermal Papillae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r fingerprints are determined by the papillae layer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In order to alter your prints you must damage through the first layer of skin…ouch!!!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y not just wear gloves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natomy of a FP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8" name="Picture 6" descr="fingerprint_definition"/>
          <p:cNvPicPr/>
          <p:nvPr/>
        </p:nvPicPr>
        <p:blipFill>
          <a:blip r:embed="rId1"/>
          <a:stretch/>
        </p:blipFill>
        <p:spPr>
          <a:xfrm>
            <a:off x="304920" y="1339920"/>
            <a:ext cx="8686800" cy="531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Minutiae"/>
          <p:cNvPicPr/>
          <p:nvPr/>
        </p:nvPicPr>
        <p:blipFill>
          <a:blip r:embed="rId1"/>
          <a:stretch/>
        </p:blipFill>
        <p:spPr>
          <a:xfrm>
            <a:off x="457200" y="-76320"/>
            <a:ext cx="8305920" cy="3302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Sample Fingerprint"/>
          <p:cNvPicPr/>
          <p:nvPr/>
        </p:nvPicPr>
        <p:blipFill>
          <a:blip r:embed="rId2"/>
          <a:stretch/>
        </p:blipFill>
        <p:spPr>
          <a:xfrm>
            <a:off x="2797200" y="2819520"/>
            <a:ext cx="3375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Print Classific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nry System- adopted in 1901, looked at ridge patterns on all 10 fingers, but only accommodated 100,000 sets of print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mary Classification- divides all fingerprints in the world into 1024 categories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Turns patterns into fraction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1/1 means that all of the fingers have the same pattern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Approximately 25% of the population have 1/1 ratio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Uses of these system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10 finger system is only of use when the investigator has the names of the suspects on han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an be entered into a database and matche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FI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mputer database of all fingerprints in the countr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Monitored by the FBI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llows for electronic comparison of a latent print to a known 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Helps to identify suspec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FI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The computer’s search determines the degree of correlation between the location and the relationship of minutiae of both the search and file print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Prior to AFIS, police had to compare prints by hand to known suspects from previous cases or that had been printed already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Latent Detail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Visible Prints- made by touching fingers to a surface after the ridges have been in contact with colored material such as blood, ink, or pa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lastic Prints- left on soft material such as putty, wax, soap or dus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Latent Prints- transfer of by oils and can not be seen by the naked ey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Dusting for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owders are brushed onto a non-absorbent surface and will adhere to the oils left by the han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Gray or Black powders are used to lift most all 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Specialized clear tape known as lifting tape is used to store the print safely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uming for Print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Exposing a piece of evidence to fumes of super glue will expose prints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ither combine cotton cloth, sodium hydroxide and super glue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at the super glue to allow evapor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Quick Experimen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You have now seen your thumbprints as a positive imprint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at you are seeing is known to members of the Forensics community as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Friction Ridge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These lines are composed of valleys (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Grooves)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and hills (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Friction Ridges)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. When you see an inked print, you are seeing the pattern of the friction ridge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8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Preserve the Print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hotograph the print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over with cellophane tape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Place on latent print recovery card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ard should be a contrasting color to the color of the powder use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5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Digital Imaging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383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Computers can enhance and darken the print to make an easier image to read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58" name="Picture 5" descr="untitled"/>
          <p:cNvPicPr/>
          <p:nvPr/>
        </p:nvPicPr>
        <p:blipFill>
          <a:blip r:embed="rId1"/>
          <a:stretch/>
        </p:blipFill>
        <p:spPr>
          <a:xfrm>
            <a:off x="4572000" y="1828800"/>
            <a:ext cx="407196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260" name="Picture 5" descr="mba0146l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Timeline of Fingerprinting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B.C. China – documents showing negative images of FP’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792 – 1750 B.C. – Ancient Babylon used prints to identify sculptors of clay pottery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684 – Dr. Nehemiah writes a paper describing patterns of FP’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788, Johann Mayer notes individuality of FP’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823 – Jan Purkyn describes 9 print patterns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1856 – Sir William Hershel noted that fingerprints do not change with age</a:t>
            </a: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1888 – Galton and Henry develop classification system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1891 – Ivan Vucetich made important changes to the collection process (10 digits, use cards)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1896 – Henry creates the </a:t>
            </a:r>
            <a:r>
              <a:rPr b="0" i="1" lang="en-US" sz="2400" spc="-1" strike="noStrike">
                <a:solidFill>
                  <a:srgbClr val="f8f8f8"/>
                </a:solidFill>
                <a:latin typeface="Arial"/>
              </a:rPr>
              <a:t>ten card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and divided FP’s into modern group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315720"/>
            <a:ext cx="7607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Early Techniques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Alphonse Bertillon- system of precise body measurements (anthropometry) 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Bertillon’s system rested on that body measurements never change after the age of 20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keleton sizes were thought to be so diverse that no two people could have the same measurements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System included 11 measurements: outstretched arms, head length and width, left foot length, left little finger length, trunk height, body height, width and length of right ear, length of the left forearm, sitting height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He also documented hair color, eye color, and skin tone</a:t>
            </a:r>
            <a:endParaRPr b="0" lang="en-US" sz="2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Anthropometry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For twenty years, anthrompometry was thought to be the most accurate measurement system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Once police looked for a more efficient way to identify people, the fingerprinting system came through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Today, fingerprinting is the pillar of criminal identification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Early use of Fingerprints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Documentation of Chinese using FP’s to sign legal documents as far back as 3,000 years ago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everal years before Bertillon began work, FP’s were used in India to “bind” someone to a contract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Scottish physician, Henry Fauld, published papers on the potential application of FP’s to personal identification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4"/>
          <p:cNvSpPr/>
          <p:nvPr/>
        </p:nvSpPr>
        <p:spPr>
          <a:xfrm>
            <a:off x="1676520" y="6400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ACOS 2.2, 2.3</a:t>
            </a:r>
            <a:endParaRPr b="0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06000" y="3157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 Black"/>
              </a:rPr>
              <a:t>Francis Galton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4640" y="1795320"/>
            <a:ext cx="782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892- published book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Finger Print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e discussed the anatomy of fingerprints and suggested techniques for recording them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Galton also assigned fingerprint types: loops, whorls, and arches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His book demonstrated that no two prints are exactly alike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Prints remain unchanged year after yea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07:24Z</dcterms:created>
  <dc:creator>Adam's Homepage</dc:creator>
  <dc:description/>
  <dc:language>en-US</dc:language>
  <cp:lastModifiedBy>Adam Goosby</cp:lastModifiedBy>
  <dcterms:modified xsi:type="dcterms:W3CDTF">2012-06-23T18:09:47Z</dcterms:modified>
  <cp:revision>22</cp:revision>
  <dc:subject/>
  <dc:title>Fingerprints</dc:title>
</cp:coreProperties>
</file>